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C70B-06EF-42C2-806C-CBF956135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94AE-6039-48CB-A436-27C7ADD35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leria care apare este asemănătoare cu galeria pentru şabloanele formă pe care le-aţi utilizat probabil în versiuni anterioare. Tema aplică modelul de fundal, aspectul substituentelor, culorile şi stilurile de font diapozitivelor şi elementelor din diapozit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egerea unei teme de la început vă ajută să vedeţi imediat cum vor arăta culorile temei aplicate pe diverse elemente adăugate, cum sunt diagramele sau tabelel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3F7-5FDB-4BE0-B319-97081A5C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37E-6397-4C6A-84A5-17B8CEE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5CFC-1186-4895-BA0F-8E79F19F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331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075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5836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331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075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19C4-2052-4366-AFEC-5956FB044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59D6-B3FE-4923-98CF-B50D70BE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0154-CE46-4818-94F2-274280E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D99F-65E1-4AC6-A922-F2B546AC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0BCD-6344-47C7-84C3-A9E3260C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7E11-D3CA-40A5-BCEE-0AE10F34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58360" y="5538600"/>
            <a:ext cx="909324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A4B3-354A-4BBC-B1B7-2409E1C4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72399-2134-404C-9E99-7158371C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124-562C-4AFE-A752-7CFC6517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498C-CC14-4DE7-BD17-D50D42F6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BE1-84C1-41DF-A864-F1842979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B6F2-5E82-4A91-913E-17CDECF2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AD90-0F3F-4372-B06C-0AF955E44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331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7075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5836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331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7075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8434-CBAF-4F17-87B0-E0D89D2A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70EB-8BEF-482C-BD2C-4959C6F8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3BFB2-A78B-4CA7-A843-F8636A71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10D8-CFE6-4373-8877-FC0CCE4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82DB-6F09-4464-80EE-35648903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551B-F8EF-4CB9-808C-7988587F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87E-E95E-4E8A-BB8E-8FFB5F5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58360" y="5538600"/>
            <a:ext cx="909324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D29A-AC88-47A2-B128-48CA581A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7425-5181-4518-A8DB-F8A04B3B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6ECC4-4E95-43C0-8394-5C26C802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C686-9738-4426-8065-3832F095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9B6A-EB7B-4A99-80CD-0D919350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3A6B1-2ECE-40B9-B509-C9611BB9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6331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7075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5836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6331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7075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A7BA-4969-4365-8B9D-C7ABDEAC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BB24D-DA46-493A-B1AF-3025438A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70EA-AF5D-403D-89EF-ED984575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7B16D-7B11-4BB0-802A-C76DE411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C20-CCD5-4810-A760-8C291252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9A19E-1D1F-469C-BD54-988F37D6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B0B6A-3D63-4634-8EBF-779336D2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58360" y="5538600"/>
            <a:ext cx="909324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BCB4B-0993-4358-B95B-2A05F48F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EBEF6-7F8E-48E4-BD5D-9AD476FE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A3FB2-876E-4887-BDFD-D1429D19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3C02-A2B1-4B2F-B2B8-005656B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2FA1-D216-434E-82F2-16F52FAE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02564-CFA2-402B-AAF2-89D45E56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331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7075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5836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331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7075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CDEEC-4D57-44E3-BFC5-35A7068E6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79D33-B57F-4983-8048-0BF95554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84D3-590A-4A14-8DBE-3C185EBD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6F99-E2F1-4D44-B01E-6C34FED28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F3ED1-D839-4DAE-800F-CD57CC1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BA555-E055-402E-BDEA-5A208D5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27FF-A976-4097-A97D-FE765DD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58360" y="5538600"/>
            <a:ext cx="909324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81CC-E186-44CD-90AF-51C4C05BA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46006-B1B9-4D7E-A843-7D158BF7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40DA7-076D-478F-9056-FA580BE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23B17-31EF-4C2B-BF97-B6500E53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E158B-20AD-412C-B4C0-A1DCD7E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717F-9751-4008-8353-40008E5B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58360" y="5538600"/>
            <a:ext cx="909324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5E2-E50F-41E2-9701-9CA2D7B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331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707520" y="58860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5836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331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707520" y="3019320"/>
            <a:ext cx="292788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D40E8-32E3-40DA-8332-CC901947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769D-0C6F-4F1A-AAC8-1FD3E01B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17840" y="301932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539-E843-4AB9-BF40-DEBDD5DF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5836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17840" y="588600"/>
            <a:ext cx="443736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58360" y="3019320"/>
            <a:ext cx="9093240" cy="22194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1778-8B36-4F77-B608-F0B655D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rotunjit 6"/>
          <p:cNvSpPr/>
          <p:nvPr/>
        </p:nvSpPr>
        <p:spPr>
          <a:xfrm>
            <a:off x="338040" y="365040"/>
            <a:ext cx="9480600" cy="68868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Dreptunghi rotunjit 8"/>
          <p:cNvGrpSpPr/>
          <p:nvPr/>
        </p:nvGrpSpPr>
        <p:grpSpPr>
          <a:xfrm>
            <a:off x="457200" y="476280"/>
            <a:ext cx="9240840" cy="6107040"/>
            <a:chOff x="457200" y="476280"/>
            <a:chExt cx="9240840" cy="6107040"/>
          </a:xfrm>
        </p:grpSpPr>
        <p:pic>
          <p:nvPicPr>
            <p:cNvPr id="2" name="Dreptunghi rotunjit 8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240840" cy="610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503280" y="520560"/>
              <a:ext cx="9153360" cy="601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marL="293760" indent="-2937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2212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73000" indent="-20160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36520" indent="-2016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20920" indent="-20160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195440" y="6791400"/>
            <a:ext cx="2539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735600" y="6791400"/>
            <a:ext cx="25401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9275400" y="6791400"/>
            <a:ext cx="507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BCC-0A81-4BF9-A8CC-A0F93F36E321}" type="slidenum">
              <a:rPr b="0" lang="en-US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reptunghi rotunjit 9"/>
          <p:cNvSpPr/>
          <p:nvPr/>
        </p:nvSpPr>
        <p:spPr>
          <a:xfrm>
            <a:off x="338040" y="365040"/>
            <a:ext cx="9480600" cy="68868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Dreptunghi rotunjit 10"/>
          <p:cNvGrpSpPr/>
          <p:nvPr/>
        </p:nvGrpSpPr>
        <p:grpSpPr>
          <a:xfrm>
            <a:off x="457200" y="476280"/>
            <a:ext cx="9240840" cy="3467160"/>
            <a:chOff x="457200" y="476280"/>
            <a:chExt cx="9240840" cy="3467160"/>
          </a:xfrm>
        </p:grpSpPr>
        <p:pic>
          <p:nvPicPr>
            <p:cNvPr id="47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24084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11200" y="528480"/>
              <a:ext cx="91375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marL="293760" indent="-2937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2212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73000" indent="-20160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36520" indent="-2016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20920" indent="-20160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195440" y="6791400"/>
            <a:ext cx="2539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735600" y="6791400"/>
            <a:ext cx="25401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9275400" y="6791400"/>
            <a:ext cx="507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5481-2D14-40A0-9974-A01C338FC3AD}" type="slidenum">
              <a:rPr b="0" lang="en-US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reptunghi rotunjit 9"/>
          <p:cNvSpPr/>
          <p:nvPr/>
        </p:nvSpPr>
        <p:spPr>
          <a:xfrm>
            <a:off x="338040" y="365040"/>
            <a:ext cx="9480600" cy="68868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Dreptunghi rotunjit 10"/>
          <p:cNvGrpSpPr/>
          <p:nvPr/>
        </p:nvGrpSpPr>
        <p:grpSpPr>
          <a:xfrm>
            <a:off x="457200" y="476280"/>
            <a:ext cx="9240840" cy="4834080"/>
            <a:chOff x="457200" y="476280"/>
            <a:chExt cx="9240840" cy="4834080"/>
          </a:xfrm>
        </p:grpSpPr>
        <p:pic>
          <p:nvPicPr>
            <p:cNvPr id="92" name="Dreptunghi rotunjit 10" descr=""/>
            <p:cNvPicPr/>
            <p:nvPr/>
          </p:nvPicPr>
          <p:blipFill>
            <a:blip r:embed="rId2"/>
            <a:stretch/>
          </p:blipFill>
          <p:spPr>
            <a:xfrm>
              <a:off x="457200" y="476280"/>
              <a:ext cx="924084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95360" y="512640"/>
              <a:ext cx="9169200" cy="476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marL="293760" indent="-2937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2212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73000" indent="-20160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36520" indent="-2016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20920" indent="-20160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195440" y="6791400"/>
            <a:ext cx="2539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735600" y="6791400"/>
            <a:ext cx="25401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9275400" y="6791400"/>
            <a:ext cx="507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36E2-76A2-4ADD-969D-CF30C102C878}" type="slidenum">
              <a:rPr b="0" lang="en-US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reptunghi rotunjit 9"/>
          <p:cNvSpPr/>
          <p:nvPr/>
        </p:nvSpPr>
        <p:spPr>
          <a:xfrm>
            <a:off x="338040" y="365040"/>
            <a:ext cx="9480600" cy="68868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marL="293760" indent="-2937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2212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73000" indent="-20160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36520" indent="-2016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20920" indent="-20160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195440" y="6791400"/>
            <a:ext cx="2539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735600" y="6791400"/>
            <a:ext cx="25401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9275400" y="6791400"/>
            <a:ext cx="507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8BF-592B-4BC9-8E07-69D71AA8AE9C}" type="slidenum">
              <a:rPr b="0" lang="en-US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reptunghi rotunjit 9"/>
          <p:cNvSpPr/>
          <p:nvPr/>
        </p:nvSpPr>
        <p:spPr>
          <a:xfrm>
            <a:off x="338040" y="365040"/>
            <a:ext cx="9480600" cy="68868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reptunghi cu un colţ rotunjit 10"/>
          <p:cNvSpPr/>
          <p:nvPr/>
        </p:nvSpPr>
        <p:spPr>
          <a:xfrm>
            <a:off x="7112160" y="482760"/>
            <a:ext cx="2582640" cy="48258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58360" y="5538600"/>
            <a:ext cx="9093240" cy="1168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58360" y="588600"/>
            <a:ext cx="9093240" cy="4653000"/>
          </a:xfrm>
          <a:prstGeom prst="rect">
            <a:avLst/>
          </a:prstGeom>
          <a:noFill/>
          <a:ln w="0">
            <a:noFill/>
          </a:ln>
        </p:spPr>
        <p:txBody>
          <a:bodyPr lIns="203040" rIns="101520" tIns="101520" bIns="50760" anchor="t">
            <a:normAutofit/>
          </a:bodyPr>
          <a:p>
            <a:pPr marL="293760" indent="-293760">
              <a:spcBef>
                <a:spcPts val="275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1" marL="608040" indent="-222120">
              <a:spcBef>
                <a:spcPts val="275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2" marL="873000" indent="-201600">
              <a:spcBef>
                <a:spcPts val="275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3" marL="1136520" indent="-201600">
              <a:spcBef>
                <a:spcPts val="275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4" marL="1420920" indent="-201600">
              <a:spcBef>
                <a:spcPts val="275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5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lvl="6" marL="1420920" indent="-201600">
              <a:spcBef>
                <a:spcPts val="27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195440" y="6791400"/>
            <a:ext cx="253980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735600" y="6791400"/>
            <a:ext cx="25401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9275400" y="6791400"/>
            <a:ext cx="507960" cy="404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5671-8CCF-441E-ACFA-B42E2532DE8A}" type="slidenum">
              <a:rPr b="0" lang="en-US" sz="11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4960" y="146016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33"/>
                </a:solidFill>
                <a:latin typeface="Arial"/>
              </a:rPr>
              <a:t>Prezentari electronice in PowerPoint</a:t>
            </a:r>
            <a:endParaRPr b="1" lang="en-US" sz="5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63320" y="3298320"/>
            <a:ext cx="7023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96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99ff"/>
                </a:solidFill>
                <a:latin typeface="Arial"/>
              </a:rPr>
              <a:t>Operatii de baza in realizarea unei prezentari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396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552600" y="500040"/>
            <a:ext cx="905508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sare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aplicatiei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nire/Toate programele/Microsoft Office/Microsoft PowerPoint 2007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u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l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ctograma de pe desktop daca ea exist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rea unei prezentari no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4751280" y="2529000"/>
            <a:ext cx="4773600" cy="2403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6"/>
          <p:cNvSpPr/>
          <p:nvPr/>
        </p:nvSpPr>
        <p:spPr>
          <a:xfrm>
            <a:off x="644400" y="2739960"/>
            <a:ext cx="407196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 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onul Offic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geţ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n meniul care se deschid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geţi o opţiune din fereastr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zentare nou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ţi posibilitatea să începeţi cu un diapozitiv necompletat sau să folosiţi un şablon sau o prezentare existent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7" descr=""/>
          <p:cNvPicPr/>
          <p:nvPr/>
        </p:nvPicPr>
        <p:blipFill>
          <a:blip r:embed="rId3"/>
          <a:stretch/>
        </p:blipFill>
        <p:spPr>
          <a:xfrm>
            <a:off x="3068640" y="2540160"/>
            <a:ext cx="1938240" cy="25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552600" y="500040"/>
            <a:ext cx="9055080" cy="28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varea unei preze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osim Butonul Offic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egem Salvare (Sav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vare ca (Save As) pentru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lvarea in alt loc, sub alt nu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u in format difer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5238720" y="1163520"/>
            <a:ext cx="3683160" cy="410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3"/>
          <a:stretch/>
        </p:blipFill>
        <p:spPr>
          <a:xfrm>
            <a:off x="3397320" y="1343160"/>
            <a:ext cx="1852560" cy="1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552600" y="500040"/>
            <a:ext cx="920268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odul de vizualizare al prezentări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 pot alege diferite moduri de vizualizare din fi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(Vizualizar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u puteţi alege una din opţiunile existente în partea stângă jos a ferestrei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2"/>
          <a:stretch/>
        </p:blipFill>
        <p:spPr>
          <a:xfrm>
            <a:off x="2433600" y="1724040"/>
            <a:ext cx="1049400" cy="5526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676440" y="3164040"/>
            <a:ext cx="1854000" cy="76356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7"/>
          <p:cNvSpPr/>
          <p:nvPr/>
        </p:nvSpPr>
        <p:spPr>
          <a:xfrm>
            <a:off x="3044880" y="3219480"/>
            <a:ext cx="6151680" cy="31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ipul de vizualizare cel mai des folosit, foarte utilă pentru crearea unei imagini de ansamblu asupra prezentări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Sorter View (Sortare diapozitiv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rezintă fiecare diapozitiv sub forma unei mici imagini grafice fiind foarte utilă pentru realizarea operaţiilor de copiere, mutarea unor diapozi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 Show (Expunere diapozitiv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e poate vizualiza întreaga prezentare creată sau F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723960" y="2739960"/>
            <a:ext cx="20145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ţiunile sunt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4"/>
          <p:cNvSpPr/>
          <p:nvPr/>
        </p:nvSpPr>
        <p:spPr>
          <a:xfrm>
            <a:off x="484200" y="500040"/>
            <a:ext cx="9055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i cu diapozitive (slide-u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osim fi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rnire(Home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rupul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pozitive (Slid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u click dreapta pe diapozitiv(sl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pozitiv nou (New Slide) – alegem formatul dorit pentru diapozitiv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poate fi de tip titlu, titlu si continut, antet sectiune, et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Ştergere diapozitiv (Delet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pierea diapozitivulu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Duplicate Sl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cunderea unui diapozitiv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Hide Sl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6910560" y="1639800"/>
            <a:ext cx="2466720" cy="1239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6899400" y="1946160"/>
            <a:ext cx="1155600" cy="922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4"/>
          <a:stretch/>
        </p:blipFill>
        <p:spPr>
          <a:xfrm>
            <a:off x="5788080" y="1386000"/>
            <a:ext cx="2341440" cy="625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"/>
          <p:cNvPicPr/>
          <p:nvPr/>
        </p:nvPicPr>
        <p:blipFill>
          <a:blip r:embed="rId5"/>
          <a:stretch/>
        </p:blipFill>
        <p:spPr>
          <a:xfrm>
            <a:off x="5418000" y="3809880"/>
            <a:ext cx="474192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131760"/>
            <a:ext cx="8933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Alegerea unei tem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2"/>
          <a:stretch/>
        </p:blipFill>
        <p:spPr>
          <a:xfrm>
            <a:off x="898560" y="1047600"/>
            <a:ext cx="5251320" cy="31863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6843600" y="1000080"/>
            <a:ext cx="2960640" cy="25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eră aspectul şi comportamentul proiectului prezentări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egeţi o temă pentru prezentare chiar de la început, pentru a vedea cum va arăta tot conţinutu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52440" y="4487760"/>
            <a:ext cx="9083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ectare(Desig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ăsiti galeria temelo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care temă are un nume afişat în SfatulEc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>
            <a:off x="369720" y="4381560"/>
            <a:ext cx="9356760" cy="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920" y="120240"/>
            <a:ext cx="99061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Ajustarea temei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80880" y="1057320"/>
            <a:ext cx="6297840" cy="31669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6885000" y="1139760"/>
            <a:ext cx="296064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iectar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ţine alte galerii dacă doriţi să modificaţi te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3"/>
          <a:stretch/>
        </p:blipFill>
        <p:spPr>
          <a:xfrm>
            <a:off x="369720" y="4381560"/>
            <a:ext cx="9356760" cy="22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"/>
          <p:cNvPicPr/>
          <p:nvPr/>
        </p:nvPicPr>
        <p:blipFill>
          <a:blip r:embed="rId4"/>
          <a:stretch/>
        </p:blipFill>
        <p:spPr>
          <a:xfrm>
            <a:off x="453960" y="4803840"/>
            <a:ext cx="276120" cy="287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"/>
          <p:cNvPicPr/>
          <p:nvPr/>
        </p:nvPicPr>
        <p:blipFill>
          <a:blip r:embed="rId5"/>
          <a:stretch/>
        </p:blipFill>
        <p:spPr>
          <a:xfrm>
            <a:off x="453960" y="5280120"/>
            <a:ext cx="276120" cy="2872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9"/>
          <p:cNvSpPr/>
          <p:nvPr/>
        </p:nvSpPr>
        <p:spPr>
          <a:xfrm>
            <a:off x="804960" y="4740120"/>
            <a:ext cx="78310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ţi galerii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l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nturi şi Efec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n fi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i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iţi alt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uri fund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Opţiunile utilizează culorile teme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804960" y="5700600"/>
            <a:ext cx="673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ţi spre o imagine redusă pentru a obţine o examinare a unui alt fund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1" descr=""/>
          <p:cNvPicPr/>
          <p:nvPr/>
        </p:nvPicPr>
        <p:blipFill>
          <a:blip r:embed="rId6"/>
          <a:stretch/>
        </p:blipFill>
        <p:spPr>
          <a:xfrm>
            <a:off x="453960" y="6561000"/>
            <a:ext cx="287280" cy="287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"/>
          <p:cNvPicPr/>
          <p:nvPr/>
        </p:nvPicPr>
        <p:blipFill>
          <a:blip r:embed="rId7"/>
          <a:stretch/>
        </p:blipFill>
        <p:spPr>
          <a:xfrm>
            <a:off x="453960" y="576756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3"/>
          <p:cNvSpPr/>
          <p:nvPr/>
        </p:nvSpPr>
        <p:spPr>
          <a:xfrm>
            <a:off x="784080" y="6504120"/>
            <a:ext cx="6731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ru a aplica un fundal propriu, cum ar fi o fotografie, faceţi clic 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und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920" y="120240"/>
            <a:ext cx="9906120" cy="5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7. Inserarea unei imagini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380880" y="1047600"/>
            <a:ext cx="6297840" cy="31752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6805440" y="1301760"/>
            <a:ext cx="3111840" cy="1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 poate insera o fotografie sau o miniatură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easta se poate face din diapozitiv sau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aţi fil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er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90600" y="4518000"/>
            <a:ext cx="276120" cy="28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4"/>
          <a:stretch/>
        </p:blipFill>
        <p:spPr>
          <a:xfrm>
            <a:off x="390600" y="5334120"/>
            <a:ext cx="276120" cy="285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"/>
          <p:cNvPicPr/>
          <p:nvPr/>
        </p:nvPicPr>
        <p:blipFill>
          <a:blip r:embed="rId5"/>
          <a:stretch/>
        </p:blipFill>
        <p:spPr>
          <a:xfrm>
            <a:off x="369720" y="592596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9" descr=""/>
          <p:cNvPicPr/>
          <p:nvPr/>
        </p:nvPicPr>
        <p:blipFill>
          <a:blip r:embed="rId6"/>
          <a:stretch/>
        </p:blipFill>
        <p:spPr>
          <a:xfrm>
            <a:off x="369720" y="4381560"/>
            <a:ext cx="9356760" cy="2232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0"/>
          <p:cNvSpPr/>
          <p:nvPr/>
        </p:nvSpPr>
        <p:spPr>
          <a:xfrm>
            <a:off x="795240" y="4502160"/>
            <a:ext cx="71661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ru a insera o imagine faceţi clic 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are imagine din pictograma Fişi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ru a insera o miniatură faceţi clic pe pictogra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atur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a va fi poziţionată în interiorul bordurii substituentulu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723960" y="6500880"/>
            <a:ext cx="7192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ru lucrul cu imaginea se foloseste d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mente imagin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4280" y="420840"/>
            <a:ext cx="956340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plicatie practica</a:t>
            </a:r>
            <a:endParaRPr b="1" lang="en-US" sz="5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2160720" y="1828800"/>
            <a:ext cx="7446960" cy="38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Creați o prezentare cu tem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timpur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Prezentarea va avea 5 slide-uri, cu următorul conţin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1: titlu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timpu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ris cu WordArt si subtitlu Numele prenumele cl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2 titlu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măv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: două motive pentru care îndrăgiţi primăv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: o imagine cu primăv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3 titlu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: două motive pentru care îndrăgiţi va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: o imagine cu va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4 titlu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a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: două motive pentru care îndrăgiţi toa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: o imagine cu toam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 5 titlu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xt: două motive pentru care îndrăgiţi ia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ine: o imagine cu iar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Aplicati culoare de fundal diferita pentru fiecare diapozitiv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Salvați prezentarea cu numel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otimpur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în folderul indicat de profes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User</cp:lastModifiedBy>
  <dcterms:modified xsi:type="dcterms:W3CDTF">2013-02-05T20:17:50Z</dcterms:modified>
  <cp:revision>2</cp:revision>
  <dc:subject/>
  <dc:title>PowerPoint Presentation</dc:title>
</cp:coreProperties>
</file>